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0.wmf" ContentType="image/x-wmf"/>
  <Override PartName="/ppt/media/image9.jpeg" ContentType="image/jpeg"/>
  <Override PartName="/ppt/media/image11.wmf" ContentType="image/x-wmf"/>
  <Override PartName="/ppt/media/image18.png" ContentType="image/png"/>
  <Override PartName="/ppt/media/image17.png" ContentType="image/png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6.jpeg" ContentType="image/jpeg"/>
  <Override PartName="/ppt/media/image16.wmf" ContentType="image/x-wmf"/>
  <Override PartName="/ppt/media/image8.png" ContentType="image/png"/>
  <Override PartName="/ppt/media/image12.wmf" ContentType="image/x-wmf"/>
  <Override PartName="/ppt/media/image15.wmf" ContentType="image/x-wmf"/>
  <Override PartName="/ppt/media/image7.png" ContentType="image/png"/>
  <Override PartName="/ppt/embeddings/oleObject1.xlsx" ContentType="application/vnd.openxmlformats-officedocument.spreadsheetml.sheet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9782A-5216-4EE6-953E-6F1C8BE067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me illustrate what is the concern and why wind is of interest from a supply point of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56FF-5138-4186-8869-D57ADAC4F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1FA5-96CD-4743-8E35-DED636A1B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2D26-53DE-497A-8222-EFCA5B443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00B7-5359-4DDD-87FA-4EA26B50E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BE3D-A9DA-4162-8597-1BB39D666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7783-2CEA-435C-BEDC-731514DB2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1995-08AE-424B-B626-30ED38C52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4074-8DD1-4272-93A1-E466469D1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D130-9582-45D0-B999-D5AA971B2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6DAE-48FD-4640-8184-D0916956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1506-D80A-444E-BEAE-D3BC2F56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A918-7BCB-4A9A-A6B1-0658E7BE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DED6A-8F08-4243-B51C-E6FFD4FB685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esv.or.at/" TargetMode="External"/><Relationship Id="rId3" Type="http://schemas.openxmlformats.org/officeDocument/2006/relationships/hyperlink" Target="http://www.esv.or.at/" TargetMode="Externa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erec-renewables.org/" TargetMode="External"/><Relationship Id="rId3" Type="http://schemas.openxmlformats.org/officeDocument/2006/relationships/hyperlink" Target="http://www.erec-renewables.org/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ccffff"/>
                </a:solidFill>
                <a:latin typeface="Arial"/>
              </a:rPr>
              <a:t>21 renewable energies </a:t>
            </a:r>
            <a:br>
              <a:rPr sz="5400"/>
            </a:br>
            <a:r>
              <a:rPr b="1" lang="de-DE" sz="5400" spc="-1" strike="noStrike">
                <a:solidFill>
                  <a:srgbClr val="ccffff"/>
                </a:solidFill>
                <a:latin typeface="Arial"/>
              </a:rPr>
              <a:t>for the XXI century</a:t>
            </a:r>
            <a:r>
              <a:rPr b="0" lang="de-DE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b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laude Tur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EP, Vice President of EUF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4000" y="547560"/>
            <a:ext cx="856908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141120" y="1295280"/>
          <a:ext cx="452916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" y="1295280"/>
                    <a:ext cx="452916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1579680" y="4154400"/>
            <a:ext cx="49384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rcRect l="0" t="1660" r="0" b="0"/>
          <a:stretch/>
        </p:blipFill>
        <p:spPr>
          <a:xfrm>
            <a:off x="4703760" y="1295280"/>
            <a:ext cx="4440240" cy="53737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U has strong wind energy potential – onshore and offshor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5240" y="6518160"/>
            <a:ext cx="40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: Shell Renewables, EP 09/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lobal wave power distribu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6262560"/>
            <a:ext cx="837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Annual average wave energy flux per unit width of wave crest (kilowatts per 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80880" y="1209600"/>
            <a:ext cx="8382240" cy="5038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427640" y="-169920"/>
            <a:ext cx="4968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: AquaEnergy Development UK, EP 09/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 share of renewables can grow fro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8% in 2005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►</a:t>
            </a:r>
            <a:r>
              <a:rPr b="1" lang="en-GB" sz="3200" spc="-1" strike="noStrike">
                <a:solidFill>
                  <a:srgbClr val="ffffff"/>
                </a:solidFill>
                <a:latin typeface="Book Antiqua"/>
                <a:ea typeface="Arial"/>
              </a:rPr>
              <a:t>►►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20-25% until 20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s illustrated in different studies ( European Commission </a:t>
            </a: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Forres 2020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; Greenpeace </a:t>
            </a: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Energy revolution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, 200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s called for by a  large majority vote in the EP on 28th September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Multiple benefits of renew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Reduce environmental stress (CO2, air pollution, no nuclear ris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nhance security of supply (ease import dependency, reduce volatility of energy prices like oi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reate jobs (250.000 today, big potential for rural area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crease competitiveness of EU economy (commercial balance, EU world leader in renewabl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728720"/>
            <a:ext cx="850752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stemic approach to energy poli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mote Energy Intelligent end 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mand policies are as important as supply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ropriate energy densities for heating &amp; coo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 density energies like exceeding energy from electricity production or low temperature uses from low temperature to be preferred before electricity and g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 local renewables as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l energy production reduces losses in transmission and transportation and strengthens local econom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ting and Cooling: a major mar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renewable ener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lligent buildings as a precondition – 40 % of EU energy use is heating and coo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omass/geothermal based cogeneration as a tool for large scale penetration of renewa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od pellets: oil from EU for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lar thermal: the next success s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Solar cooling: a must for Southern Europ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telligent buildings as a precondition:</a:t>
            </a:r>
            <a:br>
              <a:rPr sz="3600"/>
            </a:b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– 40 % of EU energy use in heating and cooling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41520" y="1600200"/>
            <a:ext cx="6060960" cy="452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618560" y="6374520"/>
            <a:ext cx="59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O.Ö. Energiesparverband (</a:t>
            </a:r>
            <a:r>
              <a:rPr b="0" lang="en-GB" sz="18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GB" sz="18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www.esv.or.a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ar-supported, integrated eco-efficient renovat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 large residential buildings and heat-supply-system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1600200"/>
          <a:ext cx="8362800" cy="4276800"/>
        </p:xfrm>
        <a:graphic>
          <a:graphicData uri="http://schemas.openxmlformats.org/drawingml/2006/table">
            <a:tbl>
              <a:tblPr/>
              <a:tblGrid>
                <a:gridCol w="2890800"/>
                <a:gridCol w="5472000"/>
              </a:tblGrid>
              <a:tr h="427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1" name="" descr=""/>
          <p:cNvPicPr/>
          <p:nvPr/>
        </p:nvPicPr>
        <p:blipFill>
          <a:blip r:embed="rId1"/>
          <a:srcRect l="15186" t="8436" r="17717" b="5062"/>
          <a:stretch/>
        </p:blipFill>
        <p:spPr>
          <a:xfrm>
            <a:off x="539640" y="2100240"/>
            <a:ext cx="2664000" cy="257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3203640" y="2039760"/>
          <a:ext cx="5483160" cy="2884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3640" y="2039760"/>
                    <a:ext cx="5483160" cy="28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3639960" y="6302520"/>
            <a:ext cx="512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: Project Solanova, presentation EP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eating and cooling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new political initiativ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oaden existing EU building directi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e gradually raising building codes for new build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heating and cooling directive with a 2020 tar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&amp;D technology platform on integrating decentralised renewables and insulation of build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20 targets for CHP (under existing directiv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op subsidies for coal and gas heating and phase out electricity based heating and coo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U energy Marshall plan for building sector (EIB, structural fund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Green electricity: 30% and more are possible until 2020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nergy intelligent appliances and electronics as a precondition for high shares of renew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nd: a European success 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cean energy: the next European success 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olar Thermal electricity: a brake-through soo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centralised Green electricity: more than P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ccffff"/>
                </a:solidFill>
                <a:latin typeface="Arial"/>
              </a:rPr>
              <a:t>21 different renewable technologies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979640" y="2491920"/>
            <a:ext cx="5688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Electricity produ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Heating and Cool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Fuel produ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Green Hydrog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0" y="508464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619280" y="5661000"/>
            <a:ext cx="597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…</a:t>
            </a: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for the XXIst Century!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ccffff"/>
                </a:solidFill>
                <a:latin typeface="Arial"/>
              </a:rPr>
              <a:t>Electricity: fair market conditions</a:t>
            </a:r>
            <a:br>
              <a:rPr sz="4000"/>
            </a:br>
            <a:r>
              <a:rPr b="0" lang="de-DE" sz="4000" spc="-1" strike="noStrike">
                <a:solidFill>
                  <a:srgbClr val="ccffff"/>
                </a:solidFill>
                <a:latin typeface="Arial"/>
              </a:rPr>
              <a:t> for renewabl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hoose stable support sche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Garantie fair access to gri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Garantie that integration of renewables into the grid is a priority for grid operators and that costs are socialised to all consumers (see historical precede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top market distorsions in favour of coal (C02 allocations) and nuclear (EURATOM, decommissioning fun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top market dominance of big and dirty oper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017800" y="5888160"/>
            <a:ext cx="51084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424720" cy="38894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Ownership-Market Concentrat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017800" y="5888160"/>
            <a:ext cx="51084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Renewable electricity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new political initiativ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ission has to enforce the existing directi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x new targets for Green electricity in 20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bine labelling of electricity with public procur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t new state aid rules r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-Regulate electricity market by a third set of directives (ownership unbundling, segregated decommissioning funds, diminution of market pow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ure a comprehensive gas policy (reducing gas from building sector, combine gas and wind over next 20 yea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ordinate North Sea offshore project between the relevant cou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-270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40680" anchor="ctr">
            <a:noAutofit/>
          </a:bodyPr>
          <a:p>
            <a:pPr algn="ctr">
              <a:tabLst>
                <a:tab algn="l" pos="0"/>
                <a:tab algn="l" pos="247680"/>
                <a:tab algn="l" pos="495360"/>
                <a:tab algn="l" pos="2808360"/>
                <a:tab algn="l" pos="3056040"/>
                <a:tab algn="l" pos="330372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i="1" lang="en-GB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Administrative and grid barri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246800" y="907920"/>
            <a:ext cx="882720" cy="1017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979720" y="907920"/>
            <a:ext cx="1066680" cy="992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079960" y="907920"/>
            <a:ext cx="905040" cy="101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474840" y="2060640"/>
          <a:ext cx="8127720" cy="419580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  <a:gridCol w="2031840"/>
              </a:tblGrid>
              <a:tr h="23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ministrat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K, FI, DE, IE, ES, SE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</a:t>
                      </a: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, BE, UK, NL, </a:t>
                      </a: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, GR, PT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    CZ, PL, SK, HU, LV, S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K, FI, DE, ES, SE, NL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            LT, CZ, SK, L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, BE, UK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H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, GR, IE, PT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PL, EE, S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3769920" y="6446880"/>
            <a:ext cx="52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: European Commission - DG TREN,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mparison of Energy and Nuclear Research and Development Budgets</a:t>
            </a:r>
            <a:br>
              <a:rPr sz="3600"/>
            </a:b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027080" y="1600200"/>
          <a:ext cx="708840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7080" y="1600200"/>
                    <a:ext cx="70884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4406760" y="6400440"/>
            <a:ext cx="462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urce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:  Cordis and European Commis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ransport: No easy solutions out of the actual cris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nds for 70% of EU oil use &amp; is the fastest growing emittor of climate related g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fficiency is far lower than in other se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ating sector: 9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ctricity sector: 4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port sector: 10-12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re are no magic solutions (hydrogen, bio-fuels) but only a fundamental change in transport structure and behavi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aising the transport efficienc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viation: the impossible eq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oods transport: the Swiss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rban spurl and transportation n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fficiency standards for cars (60gr CO2/k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Impact of urban densities on transport energy demand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116000" y="1628640"/>
          <a:ext cx="7056360" cy="4464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28640"/>
                    <a:ext cx="7056360" cy="44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0" y="6227280"/>
            <a:ext cx="122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Prof. Dr. Hermann Knoflacher –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stitut für Verkehrsplanung und Verkehrstechnik, Technische Universität Wi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41" name=""/>
          <p:cNvGrpSpPr/>
          <p:nvPr/>
        </p:nvGrpSpPr>
        <p:grpSpPr>
          <a:xfrm>
            <a:off x="457200" y="1600200"/>
            <a:ext cx="8229600" cy="4525920"/>
            <a:chOff x="457200" y="1600200"/>
            <a:chExt cx="8229600" cy="4525920"/>
          </a:xfrm>
        </p:grpSpPr>
        <p:pic>
          <p:nvPicPr>
            <p:cNvPr id="142" name="" descr=""/>
            <p:cNvPicPr/>
            <p:nvPr/>
          </p:nvPicPr>
          <p:blipFill>
            <a:blip r:embed="rId2"/>
            <a:stretch/>
          </p:blipFill>
          <p:spPr>
            <a:xfrm>
              <a:off x="457200" y="1600200"/>
              <a:ext cx="822960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 txBox="1"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4083840" y="6375240"/>
            <a:ext cx="50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: Pew Center on Global Climate Ch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Biomass: the sleeping gia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ge potential for biomass use in Eur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dow of opportunity because of CAP re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ority should be electricity sector not transport sec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-fuel strategy has to be assessed on a well to wheel bas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generation of bio fuels more promising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115640" y="2563920"/>
            <a:ext cx="67690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ctricity prod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dro power, biomass, wind, geothermal, solar photovoltaic, solar thermal electricity, energy from waves, energy from sea currents, energy from osmoses, upwind power stations, and other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17800" y="39060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21 different renewable technologi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ccffff"/>
                </a:solidFill>
                <a:latin typeface="Arial"/>
              </a:rPr>
              <a:t>New initiatives in the transport sector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ll pricing of air trans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iss model for EU goods trans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el standards for new cars (60 g/km in 202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shall plan on urban transport (EIB, structural fun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hape existing bio fuel direc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x relief for bio fuels until 20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&amp;D on second generation of bio fu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e XXI century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e Renewables century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the technolog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the organisational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the financial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are in need of a stable investment climate – responsible politicians shoul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 NOW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023480" y="2576520"/>
            <a:ext cx="7580520" cy="38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ating and Coo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sive solar architecture, surplus low temperature energy from biomass co-generation, solar collectors for heating and cooling, geothermal (low temperature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od pellets, dried biomass from energy cr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017800" y="39060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21 different renewable technologi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971640" y="2781000"/>
            <a:ext cx="73548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Fuel prod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lant oil, bio diesel RME, ethanol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ynthetic fuels from biom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Green Hydroge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ccffff"/>
                </a:solidFill>
                <a:latin typeface="Arial"/>
              </a:rPr>
              <a:t>21 different renewable technologi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Falling costs for wind energy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319040" y="1795320"/>
            <a:ext cx="6505920" cy="4133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394640" y="6171840"/>
            <a:ext cx="635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EREC, 2005 - European Renewable Energy Counc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18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http://www.erec-renewables.org</a:t>
            </a:r>
            <a:r>
              <a:rPr b="0" lang="en-GB" sz="18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/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700280" y="1314360"/>
          <a:ext cx="5743440" cy="377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0280" y="1314360"/>
                    <a:ext cx="574344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1908000" y="5734080"/>
            <a:ext cx="55198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: Solar Generation (Greenpeace – EPI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Falling costs for PV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Job creation in the renewable energy sector is substanti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Investment replaces payments of oil, gas and coal im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250.000 jobs  already tod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Proportion of labour force in the  renewable energy sector by 2010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117440" y="1600200"/>
            <a:ext cx="6909120" cy="4525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566720" y="6301800"/>
            <a:ext cx="601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EC Mitre study, (http://mitre.energyprojects.net/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06:09:33Z</dcterms:created>
  <dc:creator>cturmes</dc:creator>
  <dc:description/>
  <dc:language>en-US</dc:language>
  <cp:lastModifiedBy>cturmes</cp:lastModifiedBy>
  <dcterms:modified xsi:type="dcterms:W3CDTF">2005-10-05T18:12:10Z</dcterms:modified>
  <cp:revision>12</cp:revision>
  <dc:subject/>
  <dc:title>21 renewable energies  for the XXI century </dc:title>
</cp:coreProperties>
</file>