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9.jpeg" ContentType="image/jpeg"/>
  <Override PartName="/ppt/media/image11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15.wmf" ContentType="image/x-wmf"/>
  <Override PartName="/ppt/media/image7.png" ContentType="image/png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BE60-F098-4B40-85BF-0A7B8C7B3C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illustrate what is the concern and why wind is of interest from a supply point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9CAE-2D6A-423C-82A8-96864C5A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4FFB-FE49-4C55-98E1-B2DAD75B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6554-51D5-4F66-953C-C0F8D3C9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ABDF-AC7A-4B96-BDDC-1C572F0D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13C-A0BC-47CD-A66C-410A57F1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348F-129B-402D-8196-21592D40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4DBA-7DB9-49DC-B62C-A80003B6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5D73-C44F-47B0-BC07-BC4FFE17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B4C1-DBE7-452B-8AC8-E913B173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7264-25E6-4275-9A1A-EA05B8BC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23AF-E336-476B-BDB2-0FADA836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61BF-2477-426B-B14F-63C5115C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9F24-9743-4023-9252-3833756E77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sv.or.at/" TargetMode="External"/><Relationship Id="rId3" Type="http://schemas.openxmlformats.org/officeDocument/2006/relationships/hyperlink" Target="http://www.esv.or.at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erec-renewables.org/" TargetMode="External"/><Relationship Id="rId3" Type="http://schemas.openxmlformats.org/officeDocument/2006/relationships/hyperlink" Target="http://www.erec-renewables.org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21 renewable energies </a:t>
            </a:r>
            <a:br>
              <a:rPr sz="5400"/>
            </a:b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for the XXI century</a:t>
            </a: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laude Tur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P, Vice President of EUF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547560"/>
            <a:ext cx="8569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41120" y="1295280"/>
          <a:ext cx="45291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1295280"/>
                    <a:ext cx="45291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579680" y="4154400"/>
            <a:ext cx="4938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1660" r="0" b="0"/>
          <a:stretch/>
        </p:blipFill>
        <p:spPr>
          <a:xfrm>
            <a:off x="4703760" y="1295280"/>
            <a:ext cx="4440240" cy="5373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U has strong wind energy potential – onshore and offsho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240" y="6518160"/>
            <a:ext cx="40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Shell Renewables, EP 09/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lobal wave power distribu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6262560"/>
            <a:ext cx="83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Annual average wave energy flux per unit width of wave crest (kilowatts per 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1209600"/>
            <a:ext cx="8382240" cy="5038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27640" y="-169920"/>
            <a:ext cx="49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: AquaEnergy Development UK, EP 09/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share of renewables can grow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8% in 2005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1" lang="en-GB" sz="3200" spc="-1" strike="noStrike">
                <a:solidFill>
                  <a:srgbClr val="ffffff"/>
                </a:solidFill>
                <a:latin typeface="Book Antiqua"/>
                <a:ea typeface="Arial"/>
              </a:rPr>
              <a:t>►►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0-25% until 20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illustrated in different studies ( European Commission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Forres 2020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; Greenpeace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Energy revolu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,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called for by a  large majority vote in the EP on 28th September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ultiple benefits of renew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duce environmental stress (CO2, air pollution, no nuclear ris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hance security of supply (ease import dependency, reduce volatility of energy prices like o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reate jobs (250.000 today, big potential for rural are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crease competitiveness of EU economy (commercial balance, EU world leader in renewab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728720"/>
            <a:ext cx="850752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emic approach to energy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te Energy Intelligent end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policies are as important as supply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priate energy densities for heating &amp;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density energies like exceeding energy from electricity production or low temperature uses from low temperature to be preferred before electricity and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local renewables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energy production reduces losses in transmission and transportation and strengthens local econom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ting and Cooling: a major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renewable ener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lligent buildings as a precondition – 40 % of EU energy use is heating and coo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mass/geothermal based cogeneration as a tool for large scale penetration of renew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 pellets: oil from EU for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ar thermal: the next success 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Solar cooling: a must for Southern Euro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telligent buildings as a precondition: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– 40 % of EU energy use in heating and cooling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1520" y="1600200"/>
            <a:ext cx="606096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18560" y="6374520"/>
            <a:ext cx="59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O.Ö. Energiesparverband 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www.esv.or.a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ar-supported, integrated eco-efficient renov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large residential buildings and heat-supply-system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362800" cy="4276800"/>
        </p:xfrm>
        <a:graphic>
          <a:graphicData uri="http://schemas.openxmlformats.org/drawingml/2006/table">
            <a:tbl>
              <a:tblPr/>
              <a:tblGrid>
                <a:gridCol w="2890800"/>
                <a:gridCol w="5472000"/>
              </a:tblGrid>
              <a:tr h="42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1"/>
          <a:srcRect l="15186" t="8436" r="17717" b="5062"/>
          <a:stretch/>
        </p:blipFill>
        <p:spPr>
          <a:xfrm>
            <a:off x="539640" y="2100240"/>
            <a:ext cx="2664000" cy="25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3203640" y="2039760"/>
          <a:ext cx="5483160" cy="288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2039760"/>
                    <a:ext cx="548316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639960" y="6302520"/>
            <a:ext cx="51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roject Solanova, presentation EP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eating and cooling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en existing EU build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gradually raising building codes for new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heating and cooling directive with a 2020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&amp;D technology platform on integrating decentralised renewables and insulation of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20 targets for CHP (under existing direc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subsidies for coal and gas heating and phase out electricity based heating and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 energy Marshall plan for building sector (EIB, structural fun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reen electricity: 30% and more are possible until 202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ergy intelligent appliances and electronics as a precondition for high shares of renew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nd: a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cean energy: the next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lar Thermal electricity: a brake-through so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entralised Green electricity: more than P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79640" y="2491920"/>
            <a:ext cx="5688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een Hydrog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5084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19280" y="566100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or the XXIst Century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Electricity: fair market conditions</a:t>
            </a:r>
            <a:br>
              <a:rPr sz="4000"/>
            </a:b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for renewabl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hoose stable suppor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fair access to gr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that integration of renewables into the grid is a priority for grid operators and that costs are socialised to all consumers (see historical preced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istorsions in favour of coal (C02 allocations) and nuclear (EURATOM, decommissioning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ominance of big and dirty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424720" cy="3889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wnership-Market Concentr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newable electricit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ission has to enforce the exist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 new targets for Green electricity in 20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 labelling of electricity with public proc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new state aid rules 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-Regulate electricity market by a third set of directives (ownership unbundling, segregated decommissioning funds, diminution of market pow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e a comprehensive gas policy (reducing gas from building sector, combine gas and wind over next 20 yea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North Sea offshore project between the relevant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 algn="ctr">
              <a:tabLst>
                <a:tab algn="l" pos="0"/>
                <a:tab algn="l" pos="247680"/>
                <a:tab algn="l" pos="495360"/>
                <a:tab algn="l" pos="2808360"/>
                <a:tab algn="l" pos="3056040"/>
                <a:tab algn="l" pos="330372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Administrative and grid b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46800" y="907920"/>
            <a:ext cx="882720" cy="1017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979720" y="907920"/>
            <a:ext cx="1066680" cy="992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79960" y="907920"/>
            <a:ext cx="905040" cy="10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474840" y="2060640"/>
          <a:ext cx="8127720" cy="41958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  <a:gridCol w="203184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IE, ES, SE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, NL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CZ, PL, SK, HU, LV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ES, SE, NL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        LT, CZ, SK, L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IE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PL, EE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3769920" y="6446880"/>
            <a:ext cx="52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European Commission - DG TREN,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mparison of Energy and Nuclear Research and Development Budgets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27080" y="1600200"/>
          <a:ext cx="7088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1600200"/>
                    <a:ext cx="7088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406760" y="6400440"/>
            <a:ext cx="46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urce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  Cordis and European Com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ransport: No easy solutions out of the actual cris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s for 70% of EU oil use &amp; is the fastest growing emittor of climate related g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ficiency is far lower than in other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ting sector: 9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ctricity sector: 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port sector: 10-1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no magic solutions (hydrogen, bio-fuels) but only a fundamental change in transport structure and behavi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ising the transport efficienc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viation: the impossible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ods transport: the Swi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rban spurl and transportation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iciency standards for cars (60gr CO2/k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Impact of urban densities on transport energy demand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16000" y="1628640"/>
          <a:ext cx="7056360" cy="446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05636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6227280"/>
            <a:ext cx="122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Prof. Dr. Hermann Knoflacher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stitut für Verkehrsplanung und Verkehrstechnik, Technische Universität W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083840" y="637524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ew Center on Global Climate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iomass: the sleeping gia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e potential for biomass use i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 of opportunity because of CAP re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should be electricity sector not transport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-fuel strategy has to be assessed on a well to wheel b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eneration of bio fuels more promisi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15640" y="2563920"/>
            <a:ext cx="67690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 power, biomass, wind, geothermal, solar photovoltaic, solar thermal electricity, energy from waves, energy from sea currents, energy from osmoses, upwind power stations, and other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New initiatives in the transport sect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pricing of air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ss model for EU goods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standards for new cars (60 g/km in 20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shall plan on urban transport (EIB, structural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hape existing bio fuel dir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relief for bio fuels until 20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&amp;D on second generation of bio f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XXI centur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Renewables centur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techn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organisation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financial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in need of a stable investment climate – responsible politicians shou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 NOW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23480" y="2576520"/>
            <a:ext cx="758052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solar architecture, surplus low temperature energy from biomass co-generation, solar collectors for heating and cooling, geothermal (low temperature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od pellets, dried biomass from energy 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71640" y="2781000"/>
            <a:ext cx="7354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ant oil, bio diesel RME, ethanol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nthetic fuels from bio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reen Hydrog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wind energ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19040" y="1795320"/>
            <a:ext cx="6505920" cy="4133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94640" y="6171840"/>
            <a:ext cx="63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REC, 2005 - European Renewable Energy Counc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ww.erec-renewables.org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/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700280" y="1314360"/>
          <a:ext cx="5743440" cy="37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0280" y="1314360"/>
                    <a:ext cx="57434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908000" y="5734080"/>
            <a:ext cx="5519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Solar Generation (Greenpeace – EP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PV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Job creation in the renewable energy sector is substant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Investment replaces payments of oil, gas and coal im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50.000 jobs  already to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roportion of labour force in the  renewable energy sector by 201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7440" y="1600200"/>
            <a:ext cx="690912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66720" y="6301800"/>
            <a:ext cx="60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C Mitre study, (http://mitre.energyprojects.net/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6:09:33Z</dcterms:created>
  <dc:creator>cturmes</dc:creator>
  <dc:description/>
  <dc:language>en-US</dc:language>
  <cp:lastModifiedBy>cturmes</cp:lastModifiedBy>
  <dcterms:modified xsi:type="dcterms:W3CDTF">2005-10-05T18:12:10Z</dcterms:modified>
  <cp:revision>12</cp:revision>
  <dc:subject/>
  <dc:title>21 renewable energies  for the XXI century </dc:title>
</cp:coreProperties>
</file>