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CDC20-9066-4FF4-BC38-AC39BBBB3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8992C-A293-4BAD-B97E-A7E652A82D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7F9D6-583B-43CB-BA4D-46A184182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758BB-54CA-49A2-9F80-1B7F9E4E53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09093-F469-412A-B277-97641B6D57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83F44-A8CD-4689-98E7-C46BA26A4A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54BE-4FAF-4BCF-A7C9-D0309E3042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4638A-335A-4CAC-A6F3-9D8B94D0D1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D3C16-84B6-4D56-AF10-D823110DB9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BE5E-4ACA-4284-A72A-B868BE702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1E325-EF82-48BC-9240-54AFE415F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C1E2-396A-4BEC-8095-8A2EB599E9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6EFD-B74B-4A73-8A66-BDFAF3E835A1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1. Výzv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1 Pro koho je určena.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2 Rozpočet a urč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2. Podmínky a důvody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261E0-253C-4FD7-953F-57F1DF5A6E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1. Výzva</a:t>
            </a: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Dne 16. března 2009 byla v systému EMITS zveřejně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Výzva pro podávání návrhů projektových záměr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ýzva je urče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pouze pro české firmy, univerzity a výzkumná pracovišt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. Zájemci mohou podat zjednodušené „vlastní i již vyvíjené“ projektové návrhy ze všech technologických oblastí, ve kterých se Evropská kosmická agentura (ESA) angažuje (viz slide 5)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 systému EMITS jsou vypsány další konkrétní tendry určené pro ČR s veškerou specifikací a s datem uzávěrky. Pro podrobnější informace je nutná registrace do systému</a:t>
            </a: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17190-E42B-4DEB-9AB1-3E3B39F611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1 Pro koho jsou urče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ýzva pro podání projektových záměrů s termínem 15. květen je určena pro: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a)    letový hardware, s upřednostněním aktivit spojených se základním vybavením družic, senzorů či obecných technologií s potenciálem opětovného využití (rozpočet návrhu nesmí přesáhnout 1 0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b)    výzkumné a vývojové aktivity (včetně studií proveditelnosti) vedoucí k produktům (hardware nebo software), službám, ověření technologií, anebo obecným technologiím s potenciálem opětovného využití (rozpočet návrhu nesmí přesáhnout 2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c)    přípravné aktivity (např. studie, formulace uživatelských požadavků, průzkumy trhu) podporující českou konkurenceschopnost v programech ESA (povinných a volitelných), kterých se Česká republika účastní (rozpočet návrhu nesmí přesáhnout 100 000 Euro).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53BB-A983-45EC-998F-2E12D6625B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2 Rozpočet a urč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Celkový rozpočet vyčleněný pro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uto Výzv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je               2 500 000 Euro. V rámci této Výzvy mohou podávat návrhy pouze společnosti nebo organizace sídlící v České republice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onsorcia zahrnující společnosti nebo organizace z jiných členských států mohou být schválena pouze v případě náležitého odůvodnění jejich zapojení. Úkoly přidělené subjektům mimo Českou republiku nesmí v žádném případě tvořit hlavní aktivity navrhovaného záměru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zdělávací a informační aktivity nejsou součástí této Výzvy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64B88-48D2-4CD3-80F1-140DF6A7D6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Podmínky a důvody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ýzva je otevřena pouze do 15. května 2009 </a:t>
            </a:r>
            <a:r>
              <a:rPr b="1" lang="cs-CZ" sz="2400" spc="-1" strike="noStrike" u="sng">
                <a:solidFill>
                  <a:srgbClr val="11a0e7"/>
                </a:solidFill>
                <a:uFillTx/>
                <a:latin typeface="Times New Roman"/>
              </a:rPr>
              <a:t>jen </a:t>
            </a: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pro podávání návrhů projektových záměrů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Do ostatních tendrů vypsaných v systému EMITS je možno se přihlašovat i nadále do data uzavření vypsaného tendru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škeré schválené projektové záměry budou kompletně financovány agenturou ESA. Registrace v systému EMITS je bezplatná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ostor mají veškeré organizace po zaregistrování do systému EMITS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152AE-6D76-4E02-818C-1F0EC457BB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57A9B-92BC-4334-9B14-737138BE91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3T09:01:21Z</dcterms:modified>
  <cp:revision>38</cp:revision>
  <dc:subject/>
  <dc:title>Prezentace aplikace PowerPoint</dc:title>
</cp:coreProperties>
</file>