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441F-667F-491D-B59E-1CDD977E5546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1BD7-4F1E-4614-8953-5E4BB22CDB3F}" type="slidenum">
              <a:rPr b="1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14E8-D549-42CF-89AB-7D0C122B1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ECDD-6696-4D60-BAF0-54D6CDBE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592D-7952-40B7-9F39-5A45FB446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0A11-1008-4685-AE1A-AC77C6885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F672-7DCA-4932-AADE-C31AB61B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2536-E187-4AC5-9BC7-4A8718CC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DB2C-C55B-4CBA-8D34-34527182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7B01-18C3-4496-B7B5-39EB366A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BF51-674F-4E12-ABEB-1B645ED2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5389-EDEF-46DA-A1DD-E37C35B3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3D25-D844-4CBA-B4DC-2183DEC4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F8FE-6904-4E08-9501-0D8862EE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6665-0422-4172-AFA9-4F207B911E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Ústav řídi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76920" y="2714400"/>
            <a:ext cx="3767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a3d7a"/>
                </a:solidFill>
                <a:latin typeface="Arial"/>
              </a:rPr>
              <a:t>Představení fakulty, </a:t>
            </a:r>
            <a:br>
              <a:rPr sz="2000"/>
            </a:br>
            <a:r>
              <a:rPr b="1" lang="pl-PL" sz="2000" spc="-1" strike="noStrike">
                <a:solidFill>
                  <a:srgbClr val="2a3d7a"/>
                </a:solidFill>
                <a:latin typeface="Arial"/>
              </a:rPr>
              <a:t>ústavu K6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876560" y="494136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Prof. Dr. Ing. Miroslav Sví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Ing. Pavel Hrubeš, Ph</a:t>
            </a:r>
            <a:r>
              <a:rPr b="1" lang="en-US" sz="1400" spc="-1" strike="noStrike">
                <a:solidFill>
                  <a:srgbClr val="2a3d7a"/>
                </a:solidFill>
                <a:latin typeface="Arial"/>
              </a:rPr>
              <a:t>.</a:t>
            </a: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84360" y="520020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Květen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6" descr="Multimetr"/>
          <p:cNvPicPr/>
          <p:nvPr/>
        </p:nvPicPr>
        <p:blipFill>
          <a:blip r:embed="rId1">
            <a:lum bright="54000"/>
          </a:blip>
          <a:stretch/>
        </p:blipFill>
        <p:spPr>
          <a:xfrm>
            <a:off x="7496280" y="3789360"/>
            <a:ext cx="1647720" cy="24861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ezpečnost a spolehlivost telematických systémů a 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, implementaci, ověřování a akreditaci různých (pozemních i kosmických) telematických systémů a zařízení zejména systémy železniční zabezpečovací techniky tak, aby byly garantovány požadované systémové parametry. K daným aplikacím budou přidány i systémy testování a certifikace vybraných aplikací dle platných směrnic a standard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bude: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Martin Leso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Ing. Faran, Ing. Fábera, Ing. Marvan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ční a navigační systém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zahrnuje návrh, implementaci a ověřování různých navigačních a identifikačních systémů s komponentami geoinformatiky jako jsou systémy automatického tísňového volání, systémy dynamické navigace, satelitní systémy elektronického mýtného, systémy pro sledování přepravy nebezpečných nákladů, atd. K daným aplikacím budou realizovány i systémy testování a certifik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bude: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Ing. Petr Bureš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c. Zelinka, Ing. Hrubeš, Ing. Vlčková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ěžejní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DA A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lemat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ney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Ž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PM Con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D Telematika, a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ni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družení pro dopravní telemati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 veřejné s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doprav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škol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licie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ditelství silnic a dál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ráva železniční dopravní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gistrát hl. m. Pra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ooperace ústavu v oblasti Va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padočeská univerzita v Plz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niverzita Pardub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sarykova univerzita v Br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univerzita Liber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ké učení technické v Br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ká škola báňská- Technická univerzita Ost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Informatiky AV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hraniční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ilinská univerz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Del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Mnich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Linko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Víde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South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lytechnica Tor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E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I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R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TS asoci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ožnosti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ítáme veškeré formy spolu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y ministerstev (MPO, MD,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dělávací projekty (E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vropské progra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radenství a odbornou čin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24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tak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g. Pavel Hrubeš, Ph.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onviktská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10 00 Praha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:   http://www.lss.fd.cvut.cz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il: hrubes@lss.fd.cvut.c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.:  (+420) 224 359 6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x:   (+420) 224 359 5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.:  (+420) 739 604 73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4" descr="sklizen"/>
          <p:cNvPicPr/>
          <p:nvPr/>
        </p:nvPicPr>
        <p:blipFill>
          <a:blip r:embed="rId1"/>
          <a:stretch/>
        </p:blipFill>
        <p:spPr>
          <a:xfrm>
            <a:off x="5072040" y="3571920"/>
            <a:ext cx="378612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first-page"/>
          <p:cNvPicPr/>
          <p:nvPr/>
        </p:nvPicPr>
        <p:blipFill>
          <a:blip r:embed="rId1"/>
          <a:stretch/>
        </p:blipFill>
        <p:spPr>
          <a:xfrm>
            <a:off x="1612800" y="857160"/>
            <a:ext cx="7245360" cy="5434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2"/>
          <a:stretch/>
        </p:blipFill>
        <p:spPr>
          <a:xfrm>
            <a:off x="5715000" y="300024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3" descr="070413FotoVyuka2OPRLZ0352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5114880" y="958680"/>
            <a:ext cx="3508560" cy="2408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Poslucharny 109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5114880" y="3695760"/>
            <a:ext cx="3529080" cy="2376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pravní systémy a tech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nagement a ekonomika dopravy    a telekomunik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utomatizace a informa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ligentní dopravní systé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tecká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fesionální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chnologie a údržba leta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firma"/>
          <p:cNvPicPr/>
          <p:nvPr/>
        </p:nvPicPr>
        <p:blipFill>
          <a:blip r:embed="rId1">
            <a:lum bright="64000"/>
          </a:blip>
          <a:srcRect l="0" t="0" r="2483" b="0"/>
          <a:stretch/>
        </p:blipFill>
        <p:spPr>
          <a:xfrm>
            <a:off x="5329080" y="928800"/>
            <a:ext cx="3600720" cy="2681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rewi2"/>
          <p:cNvPicPr/>
          <p:nvPr/>
        </p:nvPicPr>
        <p:blipFill>
          <a:blip r:embed="rId2">
            <a:lum bright="52000"/>
          </a:blip>
          <a:stretch/>
        </p:blipFill>
        <p:spPr>
          <a:xfrm>
            <a:off x="4824360" y="3952800"/>
            <a:ext cx="4176720" cy="1800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aplikované matema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dopravních systém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ekonomiky a managementu dopravy a telekomunik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informatiky a telekomunik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jazyků a společenských vě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dopravní techn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řízení dopravních procesů a logis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mechaniky a materiá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řídicí techniky a telema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letecké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soudního znalectví v doprav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pro bakalářská studia - pracoviště Děč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47920" y="914040"/>
            <a:ext cx="6053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f. Dr. Ing. Miroslav Sví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doucí ústa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ca 40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. laboratoř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ec. zaříz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1500120" y="1571760"/>
            <a:ext cx="1357560" cy="1809720"/>
          </a:xfrm>
          <a:prstGeom prst="rect">
            <a:avLst/>
          </a:prstGeom>
          <a:ln w="0">
            <a:noFill/>
          </a:ln>
        </p:spPr>
      </p:pic>
      <p:sp>
        <p:nvSpPr>
          <p:cNvPr id="121" name="TextovéPole 7"/>
          <p:cNvSpPr/>
          <p:nvPr/>
        </p:nvSpPr>
        <p:spPr>
          <a:xfrm>
            <a:off x="1357200" y="3786120"/>
            <a:ext cx="5643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ktivity ústav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ýuka a vzdělávání, škol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ědecko - výzkum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Odborná činnos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rešeršní práce, posudky, poradens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ýzkumné zprávy, pilotní projek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měření, testování, certifik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4143240" y="1479600"/>
            <a:ext cx="50864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lasti zájmu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bdélník 23"/>
          <p:cNvSpPr/>
          <p:nvPr/>
        </p:nvSpPr>
        <p:spPr>
          <a:xfrm>
            <a:off x="1285920" y="765000"/>
            <a:ext cx="7858080" cy="6072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Skupina 21" descr=""/>
          <p:cNvPicPr/>
          <p:nvPr/>
        </p:nvPicPr>
        <p:blipFill>
          <a:blip r:embed="rId1"/>
          <a:stretch/>
        </p:blipFill>
        <p:spPr>
          <a:xfrm>
            <a:off x="-353880" y="871560"/>
            <a:ext cx="924876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tele_sml_prezentace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818320" y="695160"/>
            <a:ext cx="5040360" cy="3233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elematické aplik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rchitektur dopravně - telematických systémů, tvorbu koncepcí a strategií implementace telematických systémů, kontrola kvality telematických systémů, teorie systémů (dynamické aliance), nové metody v telematice (kvantová informatika), elektronické platby, rozsáhlé systémy, at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Zuzana Bělin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f. Votruba, Prof. Novák, Prof. Svítek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Řízení do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 ověřování řídicích systémů pozemní dopravy za pomoci dalších simulačních a modelovacích nástrojů tak, aby byla splněna kriteriální funkce řízení a to jak na úrovni HW, tak i S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Vladimír Fal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f. Vysoký, Prof. Přibyl, Doc. Tichý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P1010372"/>
          <p:cNvPicPr/>
          <p:nvPr/>
        </p:nvPicPr>
        <p:blipFill>
          <a:blip r:embed="rId1">
            <a:lum bright="58000"/>
          </a:blip>
          <a:stretch/>
        </p:blipFill>
        <p:spPr>
          <a:xfrm>
            <a:off x="3986280" y="3457440"/>
            <a:ext cx="5157720" cy="29005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Lidský faktor v dopra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 ověřování rozhraní člověk-stroj včetně realizace těchto rozhraní na simulátorech. V rámci této oblasti je i skupina zabývající se zpracováním různých signálů (Eye Tracking, Oxygenation Monitor, EEG, EKG,  atd.) a vytěžování těchto dat pro další přidružené oblasti jako je posuzování ovládacích prvků vozidel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Petr Bouchner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of. Novák, Prof. Faber, at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3:27:44Z</dcterms:created>
  <dc:creator>Pavel Hrubeš</dc:creator>
  <dc:description/>
  <dc:language>en-US</dc:language>
  <cp:lastModifiedBy>Pavel Hrubeš</cp:lastModifiedBy>
  <dcterms:modified xsi:type="dcterms:W3CDTF">2009-05-13T12:55:13Z</dcterms:modified>
  <cp:revision>685</cp:revision>
  <dc:subject/>
  <dc:title>Pracovní jednání projektu OP RLZ 0352</dc:title>
</cp:coreProperties>
</file>