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A4CDC-1C18-49C2-AC4C-80367D02D39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B4995-2F8A-489B-8C92-1DBA072DD5F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D66F1-6873-4396-B834-57A181A1E11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425A5-72CF-411A-BA85-CBAD9DBE556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F7A09-B1E0-40A6-BD67-F28348DEDE4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A39F7-9483-4A61-A147-86785AA6DB8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1F4B2-C7A8-49EC-8721-273FC2E53F3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137E6-65BC-4E68-9E5B-F0A6BE06CB9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5BB64-4FCA-4E59-9B37-B0F5F362E86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73043-367E-402D-949A-1E015A16D95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FC9C-3284-44E0-A8E3-B0EC35949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7DEE-EAF7-44B1-BF34-F624C93BA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FC18-9B92-469D-8DDE-3D461C36D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9040-0855-4E54-B292-BEBA76A90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9E74-D335-43ED-9783-E78FFF7C3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353C-D74D-4A37-9189-148A32839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3AB8-D176-4871-B72A-FD323918B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D5FF-1596-4343-84EE-2019071F4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FB92-906F-49F2-B79A-B46B36AFC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26C1-F147-401B-95DA-17796BBC1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53AC-C2FC-4269-B7A4-9F053574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C413-8E1B-4B63-88AA-CA9D8FCA9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3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40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České vysoké učení technické v Praze - Fakulta dopravní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Katedra řídí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92E86-E707-4996-9BF3-B46B0E4CB04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36" descr=""/>
          <p:cNvPicPr/>
          <p:nvPr/>
        </p:nvPicPr>
        <p:blipFill>
          <a:blip r:embed="rId3"/>
          <a:stretch/>
        </p:blipFill>
        <p:spPr>
          <a:xfrm>
            <a:off x="7543800" y="6381720"/>
            <a:ext cx="533520" cy="405000"/>
          </a:xfrm>
          <a:prstGeom prst="rect">
            <a:avLst/>
          </a:prstGeom>
          <a:ln w="0">
            <a:noFill/>
          </a:ln>
        </p:spPr>
      </p:pic>
      <p:sp>
        <p:nvSpPr>
          <p:cNvPr id="8" name="Line 45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" name="Picture 49" descr="obr3a_hhh"/>
          <p:cNvPicPr/>
          <p:nvPr/>
        </p:nvPicPr>
        <p:blipFill>
          <a:blip r:embed="rId4"/>
          <a:srcRect l="15230" t="4755" r="69543" b="0"/>
          <a:stretch/>
        </p:blipFill>
        <p:spPr>
          <a:xfrm>
            <a:off x="0" y="0"/>
            <a:ext cx="1295280" cy="6324480"/>
          </a:xfrm>
          <a:prstGeom prst="rect">
            <a:avLst/>
          </a:prstGeom>
          <a:ln w="0">
            <a:noFill/>
          </a:ln>
        </p:spPr>
      </p:pic>
      <p:sp>
        <p:nvSpPr>
          <p:cNvPr id="10" name="Line 51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Line 29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9" descr="obr3a_hhh"/>
          <p:cNvPicPr/>
          <p:nvPr/>
        </p:nvPicPr>
        <p:blipFill>
          <a:blip r:embed="rId3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1"/>
          <p:cNvSpPr/>
          <p:nvPr/>
        </p:nvSpPr>
        <p:spPr>
          <a:xfrm>
            <a:off x="4952880" y="68580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České vysoké učení technické v Praz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3"/>
          <p:cNvSpPr/>
          <p:nvPr/>
        </p:nvSpPr>
        <p:spPr>
          <a:xfrm>
            <a:off x="4876920" y="1828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a3d7a"/>
                </a:solidFill>
                <a:latin typeface="Arial"/>
              </a:rPr>
              <a:t>Fakulta dopravní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24"/>
          <p:cNvSpPr/>
          <p:nvPr/>
        </p:nvSpPr>
        <p:spPr>
          <a:xfrm>
            <a:off x="4876920" y="220968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a3d7a"/>
                </a:solidFill>
                <a:latin typeface="Arial"/>
              </a:rPr>
              <a:t>Katedra řídící techniky a telematiky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38" descr=""/>
          <p:cNvPicPr/>
          <p:nvPr/>
        </p:nvPicPr>
        <p:blipFill>
          <a:blip r:embed="rId4"/>
          <a:stretch/>
        </p:blipFill>
        <p:spPr>
          <a:xfrm>
            <a:off x="8305920" y="722160"/>
            <a:ext cx="761760" cy="573120"/>
          </a:xfrm>
          <a:prstGeom prst="rect">
            <a:avLst/>
          </a:prstGeom>
          <a:ln w="0">
            <a:noFill/>
          </a:ln>
        </p:spPr>
      </p:pic>
      <p:sp>
        <p:nvSpPr>
          <p:cNvPr id="53" name="Line 46"/>
          <p:cNvSpPr/>
          <p:nvPr/>
        </p:nvSpPr>
        <p:spPr>
          <a:xfrm>
            <a:off x="4572000" y="685800"/>
            <a:ext cx="0" cy="6248520"/>
          </a:xfrm>
          <a:prstGeom prst="line">
            <a:avLst/>
          </a:prstGeom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876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857480" y="2924280"/>
            <a:ext cx="4500360" cy="22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831a4"/>
                </a:solidFill>
                <a:latin typeface="Arial"/>
              </a:rPr>
              <a:t>Bezpečnost a spolehlivost telematických systémů a zařízení </a:t>
            </a:r>
            <a:br>
              <a:rPr sz="2400"/>
            </a:br>
            <a:br>
              <a:rPr sz="2400"/>
            </a:br>
            <a:r>
              <a:rPr b="1" lang="cs-CZ" sz="1800" spc="-1" strike="noStrike">
                <a:solidFill>
                  <a:srgbClr val="0831a4"/>
                </a:solidFill>
                <a:latin typeface="Arial"/>
              </a:rPr>
              <a:t>Certifikační orgán</a:t>
            </a:r>
            <a:br>
              <a:rPr sz="1800"/>
            </a:br>
            <a:r>
              <a:rPr b="1" lang="cs-CZ" sz="1800" spc="-1" strike="noStrike">
                <a:solidFill>
                  <a:srgbClr val="0831a4"/>
                </a:solidFill>
                <a:latin typeface="Arial"/>
              </a:rPr>
              <a:t>Zkušební laborato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5286240" y="5714640"/>
            <a:ext cx="42674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a3d7a"/>
                </a:solidFill>
                <a:latin typeface="Arial"/>
              </a:rPr>
              <a:t>Ing. Martin Leso, Ph</a:t>
            </a:r>
            <a:r>
              <a:rPr b="1" lang="en-US" sz="1400" spc="-1" strike="noStrike">
                <a:solidFill>
                  <a:srgbClr val="2a3d7a"/>
                </a:solidFill>
                <a:latin typeface="Arial"/>
              </a:rPr>
              <a:t>.</a:t>
            </a:r>
            <a:r>
              <a:rPr b="1" lang="cs-CZ" sz="1400" spc="-1" strike="noStrike">
                <a:solidFill>
                  <a:srgbClr val="2a3d7a"/>
                </a:solidFill>
                <a:latin typeface="Arial"/>
              </a:rPr>
              <a:t>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ozsah posuzová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OV FD posuzuje shodu výrobku (dle SKP 31.62.11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vropský železniční systém  - subsystém řízení a zabezpeč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robky v oboru železniční zabezpečovací techniky včetně mobilní části vlakového zabezpečovacího zaříz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robky v oboru sdělovací techniky, které se podílejí na bezpečné činnosti výrobku v oboru železniční zabezpečovací techniky nebo by mohly ovlivnit jejich bezpečnou čin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ozsah posuzová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ormativní dokumenty pro posuzování sh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80000"/>
              </a:lnSpc>
              <a:spcBef>
                <a:spcPts val="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ařízení vlády č. 133/2005 Sb. ve znění nařízení vlády č. 371/2007 Sb. (2001/16/ES, 96/48/ES, 2004/50/ES, 2007/32/ES) a navazující Vyhláška č. 352/2004 Sb. ve znění vyhl. č. 377/2006 Sb. v rozsahu norem: ČSN EN 50121-1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80000"/>
              </a:lnSpc>
              <a:spcBef>
                <a:spcPts val="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ČSN EN 50121-2; ČSN EN 50121-3-1; ČSN EN 50121-3-2; ČSN EN 50121-4; ČSN EN 50121-5; ČSN EN 50 124-1; ČSN EN 50 124-2; ČSN EN 50125-1; ČSN EN 50125-3; ČSN EN 50155; ČSN EN 50126; ČSN EN 50128; ČSN EN 50129; ČSN EN 50159-1; ČSN EN 50159-2; ČSN EN 50238; ČSN 34 2040, Kapitola III., IV., V; ČSN 34 2600; ČSN 34 2613; ČSN 34 2614; ČSN 34 2617; TNŽ 28 1020; TNŽ 34 2604; TNŽ 34 2606; TNŽ 34 2607; TNŽ 34 2610; TNŽ 34 2620; TNŽ 34 2640; TNŽ 34 266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80000"/>
              </a:lnSpc>
              <a:spcBef>
                <a:spcPts val="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ETSI EN 300330-1; Rozhodnutí komise 2006/860/ES, v rozsahu přílohy TSI, kap. 3 a 4. + 2007/153/ES Změna přílohy A; Rozhodnutí Komise 2006/679/ES, v rozsahu přílohy TSI, kap. 3.a 4. + 2007/153/ES Změna přílohy A; ČSN 342650; ČSN 28 1310, čl. 7, čl. 9.5.3, čl. 9.5.5.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80000"/>
              </a:lnSpc>
              <a:spcBef>
                <a:spcPts val="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měrnice SŽDC č.34/2007, Článek 12; Směrnice SŽDC č. 16/2005, v rozsahu požadavků bodu 4 v příloze 1; Vyhláška MD č. 177/1995 Sb.ve znění vyhl. č. 243/1996 Sb., vyhl. č. 346/2000 Sb., vyhl. č. 413/2001 Sb. a vyhl. č. 577/2004 Sb. v rozsahu požadavků § 23 až § 24 a § 42 až § 44 a § 60 až § 6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Certifikační orgán pro výrobk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476360" y="1341360"/>
          <a:ext cx="7391520" cy="3780000"/>
        </p:xfrm>
        <a:graphic>
          <a:graphicData uri="http://schemas.openxmlformats.org/drawingml/2006/table">
            <a:tbl>
              <a:tblPr/>
              <a:tblGrid>
                <a:gridCol w="531720"/>
                <a:gridCol w="6859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lužba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uzování shody železničních zabezpečovacích zařízení s požadavky normy nebo jiného dokumentu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uzování shody součástí interoperability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ěřování subsystémů evropského železničního systému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Rectangle 34"/>
          <p:cNvSpPr/>
          <p:nvPr/>
        </p:nvSpPr>
        <p:spPr>
          <a:xfrm>
            <a:off x="1403280" y="76500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V FD poskytuje 3 druhy služeb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alší odborné činnosti a aktivity skupi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vorba standardů a norem z oblasti železniční zabezpečovací techni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sudky a odborná stanoviska k řešení zabezpečení železničních provozů a průmyslové automatiz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alší aktivity pracovní skupi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979640" y="765000"/>
            <a:ext cx="73915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a vývoj elektronických řídících systém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plikace mikrokontroler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lnSpc>
                <a:spcPct val="90000"/>
              </a:lnSpc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mel, Motorola, Intel, Mikro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lnSpc>
                <a:spcPct val="90000"/>
              </a:lnSpc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CC, ICC, 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plikace bezdrátové komunik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lnSpc>
                <a:spcPct val="90000"/>
              </a:lnSpc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iFi, Bluetooth, ZigB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plikace hradlových polí FPGA, CP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lnSpc>
                <a:spcPct val="90000"/>
              </a:lnSpc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ilinx Virtex 4, Virtex 5, Spartan 3, 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lnSpc>
                <a:spcPct val="90000"/>
              </a:lnSpc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SE Foun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ávrh tištěných spoj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lnSpc>
                <a:spcPct val="90000"/>
              </a:lnSpc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RCAD 10.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6" descr="modules"/>
          <p:cNvPicPr/>
          <p:nvPr/>
        </p:nvPicPr>
        <p:blipFill>
          <a:blip r:embed="rId1"/>
          <a:stretch/>
        </p:blipFill>
        <p:spPr>
          <a:xfrm>
            <a:off x="7800840" y="5157720"/>
            <a:ext cx="13431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ealizované projek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ynamická parciální rekonfigurace (FPGA – Virtex 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mplementace bezpečného logické jádra pro železniční zabezpečovací zaříz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plikace mikrokontrolerů (Atmel) a bezdrátové komunikace (Bluetoot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pravní laboratoř fakulty doprav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ízení modelového kolejiště a ovládacích prvků zabezpečovacích zařízení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Ukázka aplikace - Dopravní laboratoř fakulty doprav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4" descr="DSC05586"/>
          <p:cNvPicPr/>
          <p:nvPr/>
        </p:nvPicPr>
        <p:blipFill>
          <a:blip r:embed="rId1"/>
          <a:stretch/>
        </p:blipFill>
        <p:spPr>
          <a:xfrm>
            <a:off x="5076720" y="3274920"/>
            <a:ext cx="4067280" cy="3051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DSC05598"/>
          <p:cNvPicPr/>
          <p:nvPr/>
        </p:nvPicPr>
        <p:blipFill>
          <a:blip r:embed="rId2"/>
          <a:stretch/>
        </p:blipFill>
        <p:spPr>
          <a:xfrm>
            <a:off x="1332000" y="765000"/>
            <a:ext cx="3744720" cy="28641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_MG_3525"/>
          <p:cNvPicPr/>
          <p:nvPr/>
        </p:nvPicPr>
        <p:blipFill>
          <a:blip r:embed="rId3"/>
          <a:stretch/>
        </p:blipFill>
        <p:spPr>
          <a:xfrm>
            <a:off x="5076720" y="765000"/>
            <a:ext cx="4067280" cy="25005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bluetooth"/>
          <p:cNvPicPr/>
          <p:nvPr/>
        </p:nvPicPr>
        <p:blipFill>
          <a:blip r:embed="rId4"/>
          <a:stretch/>
        </p:blipFill>
        <p:spPr>
          <a:xfrm>
            <a:off x="1332000" y="3645000"/>
            <a:ext cx="374472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76360" y="1484280"/>
            <a:ext cx="739152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Zkušební laborato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Fakulty doprav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www.zlfd.cvut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Multimetr"/>
          <p:cNvPicPr/>
          <p:nvPr/>
        </p:nvPicPr>
        <p:blipFill>
          <a:blip r:embed="rId1"/>
          <a:stretch/>
        </p:blipFill>
        <p:spPr>
          <a:xfrm>
            <a:off x="7496280" y="3789360"/>
            <a:ext cx="164772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Zkušební laboratoř Fakulty doprav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32000" y="764640"/>
            <a:ext cx="7812000" cy="5472360"/>
          </a:xfrm>
          <a:prstGeom prst="rect">
            <a:avLst/>
          </a:prstGeom>
          <a:noFill/>
          <a:ln w="9360">
            <a:solidFill>
              <a:srgbClr val="5b5249"/>
            </a:solidFill>
            <a:miter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c6600"/>
                </a:solidFill>
                <a:latin typeface="Arial"/>
              </a:rPr>
              <a:t>Zkušební laboratoř má dvě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831a4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oratoř měření základních elektrických velič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831a4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oratoř speciálních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unik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aboratoř je akreditována u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Českéh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itutu pro akreditaci,o.p.s.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akreditovány jsou zkoušky na pracovišti č.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voltmetr_rouckax"/>
          <p:cNvPicPr/>
          <p:nvPr/>
        </p:nvPicPr>
        <p:blipFill>
          <a:blip r:embed="rId1"/>
          <a:stretch/>
        </p:blipFill>
        <p:spPr>
          <a:xfrm>
            <a:off x="8416800" y="5516640"/>
            <a:ext cx="72720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Pracoviště č. 1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47920" y="836280"/>
            <a:ext cx="769608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dmětem činnosti pracoviště č. 1 je měření základních elektrických velič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2050920" y="2060640"/>
            <a:ext cx="6121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a3b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pětí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0a3b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u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0a3b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p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0a3b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mitoče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0a3b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ázový posu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1476360" y="4422600"/>
            <a:ext cx="7667640" cy="21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 zkoušky typové, kontrolní a bezpečnostní funkce elektrických, elektromechanických a elektronických zabezpečovacích zařízení.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7" descr="voltmetr_rouckax"/>
          <p:cNvPicPr/>
          <p:nvPr/>
        </p:nvPicPr>
        <p:blipFill>
          <a:blip r:embed="rId1"/>
          <a:stretch/>
        </p:blipFill>
        <p:spPr>
          <a:xfrm>
            <a:off x="8416800" y="5516640"/>
            <a:ext cx="72720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řehled zkoušek pracoviště č.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" name="Group 218"/>
          <p:cNvGrpSpPr/>
          <p:nvPr/>
        </p:nvGrpSpPr>
        <p:grpSpPr>
          <a:xfrm>
            <a:off x="1476360" y="836640"/>
            <a:ext cx="7372080" cy="5283000"/>
            <a:chOff x="1476360" y="836640"/>
            <a:chExt cx="7372080" cy="5283000"/>
          </a:xfrm>
        </p:grpSpPr>
        <p:sp>
          <p:nvSpPr>
            <p:cNvPr id="119" name="Rectangle 126"/>
            <p:cNvSpPr/>
            <p:nvPr/>
          </p:nvSpPr>
          <p:spPr>
            <a:xfrm>
              <a:off x="2858400" y="5298840"/>
              <a:ext cx="59878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Měření střídavých složek zpětných trakčních proudů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Rectangle 125"/>
            <p:cNvSpPr/>
            <p:nvPr/>
          </p:nvSpPr>
          <p:spPr>
            <a:xfrm>
              <a:off x="1476360" y="5298840"/>
              <a:ext cx="13820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6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122"/>
            <p:cNvSpPr/>
            <p:nvPr/>
          </p:nvSpPr>
          <p:spPr>
            <a:xfrm>
              <a:off x="2858400" y="4505040"/>
              <a:ext cx="598788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Měření fázového posunu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121"/>
            <p:cNvSpPr/>
            <p:nvPr/>
          </p:nvSpPr>
          <p:spPr>
            <a:xfrm>
              <a:off x="1476360" y="4505040"/>
              <a:ext cx="138204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5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Rectangle 118"/>
            <p:cNvSpPr/>
            <p:nvPr/>
          </p:nvSpPr>
          <p:spPr>
            <a:xfrm>
              <a:off x="2858400" y="3709800"/>
              <a:ext cx="598788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Měření kmitočtu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Rectangle 117"/>
            <p:cNvSpPr/>
            <p:nvPr/>
          </p:nvSpPr>
          <p:spPr>
            <a:xfrm>
              <a:off x="1476360" y="3709800"/>
              <a:ext cx="138204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4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Rectangle 114"/>
            <p:cNvSpPr/>
            <p:nvPr/>
          </p:nvSpPr>
          <p:spPr>
            <a:xfrm>
              <a:off x="2858400" y="2916000"/>
              <a:ext cx="598788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Měření odporu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Rectangle 113"/>
            <p:cNvSpPr/>
            <p:nvPr/>
          </p:nvSpPr>
          <p:spPr>
            <a:xfrm>
              <a:off x="1476360" y="2916000"/>
              <a:ext cx="138204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3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Rectangle 110"/>
            <p:cNvSpPr/>
            <p:nvPr/>
          </p:nvSpPr>
          <p:spPr>
            <a:xfrm>
              <a:off x="2858400" y="2120760"/>
              <a:ext cx="598788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Měření proudu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Rectangle 109"/>
            <p:cNvSpPr/>
            <p:nvPr/>
          </p:nvSpPr>
          <p:spPr>
            <a:xfrm>
              <a:off x="1476360" y="2120760"/>
              <a:ext cx="138204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2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Rectangle 106"/>
            <p:cNvSpPr/>
            <p:nvPr/>
          </p:nvSpPr>
          <p:spPr>
            <a:xfrm>
              <a:off x="2858400" y="1298520"/>
              <a:ext cx="5987880" cy="82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Měření napětí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Rectangle 105"/>
            <p:cNvSpPr/>
            <p:nvPr/>
          </p:nvSpPr>
          <p:spPr>
            <a:xfrm>
              <a:off x="1476360" y="1298520"/>
              <a:ext cx="1382040" cy="82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1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Rectangle 102"/>
            <p:cNvSpPr/>
            <p:nvPr/>
          </p:nvSpPr>
          <p:spPr>
            <a:xfrm>
              <a:off x="2858400" y="842760"/>
              <a:ext cx="59878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Název zkoušky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Rectangle 101"/>
            <p:cNvSpPr/>
            <p:nvPr/>
          </p:nvSpPr>
          <p:spPr>
            <a:xfrm>
              <a:off x="1476360" y="842760"/>
              <a:ext cx="13820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Číslo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Line 150"/>
            <p:cNvSpPr/>
            <p:nvPr/>
          </p:nvSpPr>
          <p:spPr>
            <a:xfrm>
              <a:off x="2858400" y="842760"/>
              <a:ext cx="0" cy="527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Line 129"/>
            <p:cNvSpPr/>
            <p:nvPr/>
          </p:nvSpPr>
          <p:spPr>
            <a:xfrm>
              <a:off x="1476360" y="836640"/>
              <a:ext cx="73702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Line 152"/>
            <p:cNvSpPr/>
            <p:nvPr/>
          </p:nvSpPr>
          <p:spPr>
            <a:xfrm>
              <a:off x="8846640" y="842760"/>
              <a:ext cx="0" cy="527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155"/>
            <p:cNvSpPr/>
            <p:nvPr/>
          </p:nvSpPr>
          <p:spPr>
            <a:xfrm>
              <a:off x="1476360" y="1298520"/>
              <a:ext cx="737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Line 164"/>
            <p:cNvSpPr/>
            <p:nvPr/>
          </p:nvSpPr>
          <p:spPr>
            <a:xfrm>
              <a:off x="1476360" y="2120760"/>
              <a:ext cx="737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173"/>
            <p:cNvSpPr/>
            <p:nvPr/>
          </p:nvSpPr>
          <p:spPr>
            <a:xfrm>
              <a:off x="1476360" y="2916000"/>
              <a:ext cx="737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Line 182"/>
            <p:cNvSpPr/>
            <p:nvPr/>
          </p:nvSpPr>
          <p:spPr>
            <a:xfrm>
              <a:off x="1476360" y="3709800"/>
              <a:ext cx="737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Line 191"/>
            <p:cNvSpPr/>
            <p:nvPr/>
          </p:nvSpPr>
          <p:spPr>
            <a:xfrm>
              <a:off x="1476360" y="4505040"/>
              <a:ext cx="737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Line 131"/>
            <p:cNvSpPr/>
            <p:nvPr/>
          </p:nvSpPr>
          <p:spPr>
            <a:xfrm>
              <a:off x="1476360" y="842760"/>
              <a:ext cx="0" cy="52765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Line 200"/>
            <p:cNvSpPr/>
            <p:nvPr/>
          </p:nvSpPr>
          <p:spPr>
            <a:xfrm>
              <a:off x="1476360" y="5298840"/>
              <a:ext cx="737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Line 130"/>
            <p:cNvSpPr/>
            <p:nvPr/>
          </p:nvSpPr>
          <p:spPr>
            <a:xfrm>
              <a:off x="1476360" y="6119640"/>
              <a:ext cx="73720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racoviště č.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1619280" y="1022760"/>
            <a:ext cx="7343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dmětem činnosti pracoviště č. 2 je zkoušení koncových telekomunikačních zařízení GSM-R a aplikací dle platných standardů UIC a ETSI.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současné době je zkoušení na pracovišti č. 2 bez odkazu na akreditac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9" descr="Antena GSM-R"/>
          <p:cNvPicPr/>
          <p:nvPr/>
        </p:nvPicPr>
        <p:blipFill>
          <a:blip r:embed="rId1"/>
          <a:stretch/>
        </p:blipFill>
        <p:spPr>
          <a:xfrm>
            <a:off x="7164360" y="4967280"/>
            <a:ext cx="1979640" cy="13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řehled zkoušek pracoviště č.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447920" y="1346040"/>
          <a:ext cx="7391160" cy="4175280"/>
        </p:xfrm>
        <a:graphic>
          <a:graphicData uri="http://schemas.openxmlformats.org/drawingml/2006/table">
            <a:tbl>
              <a:tblPr/>
              <a:tblGrid>
                <a:gridCol w="1323720"/>
                <a:gridCol w="60674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íslo zkoušky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ázev zkoušky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řihlášení mobilního terminálu do sítě GSM-R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87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 sestavení spojení mobilního terminálu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upinová volání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79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oritní volání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4" descr="JOP"/>
          <p:cNvPicPr/>
          <p:nvPr/>
        </p:nvPicPr>
        <p:blipFill>
          <a:blip r:embed="rId1"/>
          <a:stretch/>
        </p:blipFill>
        <p:spPr>
          <a:xfrm>
            <a:off x="3635280" y="4221000"/>
            <a:ext cx="2747880" cy="20624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31640" y="1341360"/>
            <a:ext cx="74451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Certifikační orgán pro výrobk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při Fakultě dopravní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ww.cov.fd.cvut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76000" y="188640"/>
            <a:ext cx="746748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Certifikační orgán pro výrob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31640" y="1125360"/>
            <a:ext cx="73911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c6600"/>
                </a:solidFill>
                <a:latin typeface="Arial"/>
              </a:rPr>
              <a:t>Certifikační orgán pro výrobk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c6600"/>
                </a:solidFill>
                <a:latin typeface="Arial"/>
              </a:rPr>
              <a:t>(COV F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vádí certifikaci shody pro výrobky z oblasti železniční zabezpečovací techniky. COV FD je akreditován u Českého institutu pro akreditaci, o.p.s pod číslem 241/200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2" descr="pendolino_net_1"/>
          <p:cNvPicPr/>
          <p:nvPr/>
        </p:nvPicPr>
        <p:blipFill>
          <a:blip r:embed="rId1"/>
          <a:stretch/>
        </p:blipFill>
        <p:spPr>
          <a:xfrm>
            <a:off x="5940360" y="4548240"/>
            <a:ext cx="320364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3T13:10:03Z</dcterms:created>
  <dc:creator>xxx</dc:creator>
  <dc:description/>
  <dc:language>en-US</dc:language>
  <cp:lastModifiedBy>Pavel Hrubeš</cp:lastModifiedBy>
  <dcterms:modified xsi:type="dcterms:W3CDTF">2009-05-13T08:49:50Z</dcterms:modified>
  <cp:revision>104</cp:revision>
  <dc:subject/>
  <dc:title>Prezentace aplikace PowerPoint</dc:title>
</cp:coreProperties>
</file>