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3CF6-D4DC-42FB-9351-6C7A72F54EC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2F66-C9E5-4C95-9ADF-E169A45E266B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3C1-B423-429C-9889-6E974F2B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98C-5F5C-416C-A648-489D84B0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D21-CE9A-48BF-8520-FB3D6087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5EB-5F84-4C80-AEE1-513A4F4F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9A7-D0B9-47F4-8B0B-4AA8B0BF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9BF-6632-4088-A2D5-3AA4EBDD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5BC-9724-4298-BBA9-D4C18A6E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B9B-EB8A-48B5-985A-F6895194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CC67-9CD4-4A85-B6B0-52E41DD6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1F6-511C-4812-BCD5-B23DEAAB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03E-878A-432D-A629-EF566907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47BB-1516-49D5-BB57-59637737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3B1E-64AA-4D28-838E-6E3753ED50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3809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Telematické apl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53337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3d7a"/>
                </a:solidFill>
                <a:latin typeface="Arial"/>
              </a:rPr>
              <a:t>Ing. Zuzana Běl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57200" y="1143000"/>
          <a:ext cx="7696440" cy="3986280"/>
        </p:xfrm>
        <a:graphic>
          <a:graphicData uri="http://schemas.openxmlformats.org/drawingml/2006/table">
            <a:tbl>
              <a:tblPr/>
              <a:tblGrid>
                <a:gridCol w="1668600"/>
                <a:gridCol w="1508040"/>
                <a:gridCol w="1509840"/>
                <a:gridCol w="1503360"/>
                <a:gridCol w="15066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arametr/Grafik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merč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rval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Takt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ál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řes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5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Spolehliv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Dostup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ntinu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Bezpeč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andardizační proces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488960" y="928800"/>
          <a:ext cx="74977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928800"/>
                    <a:ext cx="74977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lexní analýza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 systémový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válená národní metodika tvorby  architektury dopravní te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a legislativa rozvo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é para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RAZ NA SYSTÉMOVÝ PŘÍSTUP ŘEŠENÍ V APLIKACI DOPRAVNÍ TELEMAT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praceuPC"/>
          <p:cNvPicPr/>
          <p:nvPr/>
        </p:nvPicPr>
        <p:blipFill>
          <a:blip r:embed="rId1"/>
          <a:stretch/>
        </p:blipFill>
        <p:spPr>
          <a:xfrm>
            <a:off x="5929200" y="4152960"/>
            <a:ext cx="32148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udie, analýzy a rešerše aktuálního stavu poznání v ČR a zahran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ad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ý návrh 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procesní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tových modelů, rozhra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finice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57200" y="81900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ac164"/>
                </a:solidFill>
                <a:latin typeface="Arial"/>
              </a:rPr>
              <a:t>Telemat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ystémově inženýrský obor, zabývající se tvorbou a účelným využitím informačního prostředí pro homeostatické procesy (kompenzace rušivých vlivů pro zachování silných procesů dle definovaných kritérií, např. komfort, ekonomika, atd.) územních celků až po globální síťová odvě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ástupný symbol pro zápatí 5"/>
          <p:cNvSpPr/>
          <p:nvPr/>
        </p:nvSpPr>
        <p:spPr>
          <a:xfrm>
            <a:off x="1547640" y="6408720"/>
            <a:ext cx="662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Inteligentní dopravní systémy – Dopravní telematik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ástupný symbol pro číslo snímku 6"/>
          <p:cNvSpPr/>
          <p:nvPr/>
        </p:nvSpPr>
        <p:spPr>
          <a:xfrm>
            <a:off x="8342280" y="648180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2497-1E87-4A08-A11A-34EF89B71F7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05080" y="2205000"/>
            <a:ext cx="7667640" cy="41036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726000" y="4292640"/>
            <a:ext cx="3024000" cy="2136600"/>
          </a:xfrm>
          <a:prstGeom prst="rect">
            <a:avLst/>
          </a:prstGeom>
          <a:solidFill>
            <a:srgbClr val="61c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2320" y="3213000"/>
            <a:ext cx="1081080" cy="1079640"/>
            <a:chOff x="4702320" y="3213000"/>
            <a:chExt cx="1081080" cy="1079640"/>
          </a:xfrm>
        </p:grpSpPr>
        <p:sp>
          <p:nvSpPr>
            <p:cNvPr id="113" name="Line 5"/>
            <p:cNvSpPr/>
            <p:nvPr/>
          </p:nvSpPr>
          <p:spPr>
            <a:xfrm>
              <a:off x="4702320" y="321300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5221440" y="3213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Rectangle 9"/>
          <p:cNvSpPr/>
          <p:nvPr/>
        </p:nvSpPr>
        <p:spPr>
          <a:xfrm>
            <a:off x="1822320" y="2565360"/>
            <a:ext cx="2880000" cy="1468440"/>
          </a:xfrm>
          <a:prstGeom prst="rect">
            <a:avLst/>
          </a:prstGeom>
          <a:solidFill>
            <a:srgbClr val="f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14680" y="2508120"/>
            <a:ext cx="31636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KOMUNIK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komunikační sítě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inteligentní telekomunikační prostřed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ultifunkční telekomunikační sítě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67560" y="2565360"/>
            <a:ext cx="2879640" cy="1468440"/>
          </a:xfrm>
          <a:prstGeom prst="rect">
            <a:avLst/>
          </a:prstGeom>
          <a:solidFill>
            <a:srgbClr val="fd92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710320" y="2508120"/>
            <a:ext cx="302400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INFOR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oftwarové inženýrstv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atabázové systémy a technologi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pracování d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ptimalizace datových toků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683160" y="4292640"/>
            <a:ext cx="30956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istribuované databáz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dukce informací, znalostní společno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matické služby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ízení sítě a telematických služe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rganizace, architektura, číselní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olsys_Stránka_2"/>
          <p:cNvPicPr/>
          <p:nvPr/>
        </p:nvPicPr>
        <p:blipFill>
          <a:blip r:embed="rId1"/>
          <a:stretch/>
        </p:blipFill>
        <p:spPr>
          <a:xfrm>
            <a:off x="1447920" y="1457280"/>
            <a:ext cx="7391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alýzy reálných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ložení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Skupina 34"/>
          <p:cNvGrpSpPr/>
          <p:nvPr/>
        </p:nvGrpSpPr>
        <p:grpSpPr>
          <a:xfrm>
            <a:off x="1285920" y="2000160"/>
            <a:ext cx="7779960" cy="3331080"/>
            <a:chOff x="1285920" y="2000160"/>
            <a:chExt cx="7779960" cy="3331080"/>
          </a:xfrm>
        </p:grpSpPr>
        <p:graphicFrame>
          <p:nvGraphicFramePr>
            <p:cNvPr id="127" name="Object 2"/>
            <p:cNvGraphicFramePr/>
            <p:nvPr/>
          </p:nvGraphicFramePr>
          <p:xfrm>
            <a:off x="1450440" y="2182680"/>
            <a:ext cx="4356360" cy="2738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50440" y="2182680"/>
                      <a:ext cx="4356360" cy="27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Text Box 7"/>
            <p:cNvSpPr/>
            <p:nvPr/>
          </p:nvSpPr>
          <p:spPr>
            <a:xfrm>
              <a:off x="1591200" y="2061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Ne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946480" y="2000160"/>
              <a:ext cx="25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1" name="Object 3"/>
            <p:cNvGraphicFramePr/>
            <p:nvPr/>
          </p:nvGraphicFramePr>
          <p:xfrm>
            <a:off x="5522760" y="2547720"/>
            <a:ext cx="3473640" cy="2383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22760" y="2547720"/>
                      <a:ext cx="3473640" cy="23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11"/>
            <p:cNvSpPr/>
            <p:nvPr/>
          </p:nvSpPr>
          <p:spPr>
            <a:xfrm>
              <a:off x="5706360" y="431784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64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7850520" y="41353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20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7850520" y="26017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667160" y="450720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3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070520" y="242856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49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85920" y="27871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</a:t>
              </a: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5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izika nesystémových přístupů a jejich vl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organizačních a legislativní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tně zadávací podmínky výběrových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autorských práv –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technických a technologický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interoperability v národním a evropské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st tvorby rozhra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na JSDI, e. coll, nebezpečné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ílení informací - integ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izika a jejich vliv do ekonom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šení zásad systémového přístupu lze očekávat  ekonomické ztráty:  (stejná úroveň služ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a legislativní = vzrůst nákladů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 250-40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oblast – integrita přenosu informací = vzrůst nákladů o 300-4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hnická – sdílení informací v architektuře = vzrůst nákladů o 350-4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57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tinuita (spojit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plnit požadované funkce/procesy bez (neplánovaného) pře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g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včasně a bezchybně informovat uživatele, že systém nemůže být použit pro operace daného po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zp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, že v případě vzniku poruchy nedojde k poškození systému nebo k materiálním ztrátám či ztrátám na lidských život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s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dy mezi měřenou a definovanou hodnotou parametru/procesu/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hliv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bez přerušení během daného postupu v průběhu definovaného časového interva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stup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při inicializaci (spuštění) systému/procesu dle daného postu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Vladimír Faltus</dc:creator>
  <dc:description/>
  <dc:language>en-US</dc:language>
  <cp:lastModifiedBy>Pavel Hrubeš</cp:lastModifiedBy>
  <dcterms:modified xsi:type="dcterms:W3CDTF">2009-05-13T12:51:03Z</dcterms:modified>
  <cp:revision>68</cp:revision>
  <dc:subject/>
  <dc:title>K620 - služby v oblasti Řízení dopravy</dc:title>
</cp:coreProperties>
</file>